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855-B5CE-4E26-A7F2-AA566BE3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49C-C891-4139-AAD3-59E28796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794-CECF-4887-AF3B-1EB906F7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C50D-70F1-4B8D-BE65-7066363A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A06-EDB1-4C90-A012-C769F9B2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903-9F2A-4D89-8A36-435A5D38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FA9-99F3-407D-8C1C-19D04382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0C0-0280-4436-9684-9DFD498B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020-92C5-4D35-8C54-CA4CBAC4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AF8-5C21-4B36-B701-7C595550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E65-4060-4DE6-B222-C3A3505D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90C-1036-4CC6-B263-7EE61D33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D476-E6EF-4C5A-A9B4-102EE786B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7560" y="76212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0" y="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6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7480" y="20574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124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0360" y="312408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600" y="4381560"/>
            <a:ext cx="16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4381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32640" y="3989520"/>
            <a:ext cx="2209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ggered by a surpris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Org change, Technology change, or business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1" idx="2"/>
            <a:endCxn id="43" idx="0"/>
          </p:cNvCxnSpPr>
          <p:nvPr/>
        </p:nvCxnSpPr>
        <p:spPr>
          <a:xfrm flipH="1">
            <a:off x="1801440" y="1221840"/>
            <a:ext cx="2556360" cy="759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1" idx="2"/>
            <a:endCxn id="44" idx="0"/>
          </p:cNvCxnSpPr>
          <p:nvPr/>
        </p:nvCxnSpPr>
        <p:spPr>
          <a:xfrm>
            <a:off x="4357440" y="1221840"/>
            <a:ext cx="18896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3" idx="2"/>
            <a:endCxn id="46" idx="0"/>
          </p:cNvCxnSpPr>
          <p:nvPr/>
        </p:nvCxnSpPr>
        <p:spPr>
          <a:xfrm>
            <a:off x="1801440" y="2440800"/>
            <a:ext cx="720000" cy="6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43" idx="2"/>
            <a:endCxn id="45" idx="0"/>
          </p:cNvCxnSpPr>
          <p:nvPr/>
        </p:nvCxnSpPr>
        <p:spPr>
          <a:xfrm flipH="1">
            <a:off x="980280" y="2440800"/>
            <a:ext cx="821520" cy="6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46" idx="2"/>
            <a:endCxn id="47" idx="0"/>
          </p:cNvCxnSpPr>
          <p:nvPr/>
        </p:nvCxnSpPr>
        <p:spPr>
          <a:xfrm flipH="1">
            <a:off x="1360800" y="3583800"/>
            <a:ext cx="1160640" cy="79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6" idx="2"/>
            <a:endCxn id="48" idx="0"/>
          </p:cNvCxnSpPr>
          <p:nvPr/>
        </p:nvCxnSpPr>
        <p:spPr>
          <a:xfrm>
            <a:off x="2521080" y="3583800"/>
            <a:ext cx="984240" cy="79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" name=""/>
          <p:cNvSpPr/>
          <p:nvPr/>
        </p:nvSpPr>
        <p:spPr>
          <a:xfrm>
            <a:off x="2895480" y="4800600"/>
            <a:ext cx="221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d by completing a set of deliver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end of phase or mile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480" y="4876920"/>
            <a:ext cx="218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d by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weekly, 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1240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4" idx="2"/>
            <a:endCxn id="58" idx="0"/>
          </p:cNvCxnSpPr>
          <p:nvPr/>
        </p:nvCxnSpPr>
        <p:spPr>
          <a:xfrm>
            <a:off x="6246720" y="2517120"/>
            <a:ext cx="34488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56960" y="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o Types on a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78080" y="1522440"/>
            <a:ext cx="5979960" cy="255600"/>
            <a:chOff x="1378080" y="1522440"/>
            <a:chExt cx="5979960" cy="255600"/>
          </a:xfrm>
        </p:grpSpPr>
        <p:sp>
          <p:nvSpPr>
            <p:cNvPr id="62" name=""/>
            <p:cNvSpPr/>
            <p:nvPr/>
          </p:nvSpPr>
          <p:spPr>
            <a:xfrm>
              <a:off x="156708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3528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0348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7168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4024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0844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7844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4664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1484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304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5160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2124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8980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5800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620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9440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6440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3260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0080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6936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3756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0756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78080" y="1650960"/>
              <a:ext cx="597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65120" y="679320"/>
            <a:ext cx="915840" cy="608040"/>
          </a:xfrm>
          <a:prstGeom prst="wedgeRectCallout">
            <a:avLst>
              <a:gd name="adj1" fmla="val 46185"/>
              <a:gd name="adj2" fmla="val 97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ject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18320" y="590400"/>
            <a:ext cx="916200" cy="608040"/>
          </a:xfrm>
          <a:prstGeom prst="wedgeRectCallout">
            <a:avLst>
              <a:gd name="adj1" fmla="val -71662"/>
              <a:gd name="adj2" fmla="val 1197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ject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600" y="176832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82640" y="176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36440" y="176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70160" y="176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0680" y="1630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07120" y="176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263680" y="1108800"/>
            <a:ext cx="208080" cy="3906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360600" y="1108800"/>
            <a:ext cx="208080" cy="3906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457880" y="1110600"/>
            <a:ext cx="207720" cy="3906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483160" y="1110600"/>
            <a:ext cx="208080" cy="3906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566040" y="1110600"/>
            <a:ext cx="207720" cy="3906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78080" y="2860560"/>
            <a:ext cx="5979960" cy="255600"/>
            <a:chOff x="1378080" y="2860560"/>
            <a:chExt cx="5979960" cy="255600"/>
          </a:xfrm>
        </p:grpSpPr>
        <p:sp>
          <p:nvSpPr>
            <p:cNvPr id="99" name=""/>
            <p:cNvSpPr/>
            <p:nvPr/>
          </p:nvSpPr>
          <p:spPr>
            <a:xfrm>
              <a:off x="156708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3528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0348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7168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4024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0844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7844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4664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1484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8304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5160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2124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8980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5800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2620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9440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440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3260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6936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3756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0756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8080" y="2989080"/>
              <a:ext cx="597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65120" y="2017800"/>
            <a:ext cx="915840" cy="608040"/>
          </a:xfrm>
          <a:prstGeom prst="wedgeRectCallout">
            <a:avLst>
              <a:gd name="adj1" fmla="val 44800"/>
              <a:gd name="adj2" fmla="val 10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ject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18320" y="2063880"/>
            <a:ext cx="916200" cy="608040"/>
          </a:xfrm>
          <a:prstGeom prst="wedgeRectCallout">
            <a:avLst>
              <a:gd name="adj1" fmla="val -89513"/>
              <a:gd name="adj2" fmla="val 70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ject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2600" y="310680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82640" y="310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36440" y="310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70160" y="310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0680" y="2968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07120" y="310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50960" y="3177360"/>
            <a:ext cx="208080" cy="390600"/>
          </a:xfrm>
          <a:prstGeom prst="diamond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27640" y="3160080"/>
            <a:ext cx="207720" cy="390600"/>
          </a:xfrm>
          <a:prstGeom prst="diamond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033960" y="3161520"/>
            <a:ext cx="208080" cy="390600"/>
          </a:xfrm>
          <a:prstGeom prst="diamond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845400" y="3145680"/>
            <a:ext cx="207720" cy="390600"/>
          </a:xfrm>
          <a:prstGeom prst="diamond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5120" y="3425760"/>
            <a:ext cx="14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ase or Mile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74920" y="356400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355280" y="35640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962680" y="356400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775560" y="356400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4880" y="4191120"/>
            <a:ext cx="80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te: Phases, milestones, etc should have been named and completion criteria should have been defined in the project plan or some other controlling docu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605720" y="1437480"/>
            <a:ext cx="401760" cy="390600"/>
          </a:xfrm>
          <a:prstGeom prst="star5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443720" y="2851920"/>
            <a:ext cx="401760" cy="390600"/>
          </a:xfrm>
          <a:prstGeom prst="star5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113440" y="3116160"/>
            <a:ext cx="642960" cy="525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97040" y="1017000"/>
            <a:ext cx="642960" cy="5252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0" y="4965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47960" y="5211720"/>
            <a:ext cx="21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planned R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5864400"/>
            <a:ext cx="182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ter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ally spaced (e.g. month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96920" y="5928480"/>
            <a:ext cx="207720" cy="3906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103480" y="5923080"/>
            <a:ext cx="208080" cy="390240"/>
          </a:xfrm>
          <a:prstGeom prst="diamond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106880" y="5938200"/>
            <a:ext cx="401760" cy="390600"/>
          </a:xfrm>
          <a:prstGeom prst="star5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300720" y="5765760"/>
            <a:ext cx="642960" cy="525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01840" y="5854680"/>
            <a:ext cx="182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lestone/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19440" y="5738760"/>
            <a:ext cx="182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rtly after the end of th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40440" y="5575320"/>
            <a:ext cx="1822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ecia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ndom  -- Whenever the trigger event occ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82960" y="5257800"/>
            <a:ext cx="18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nned R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5360" y="5605560"/>
            <a:ext cx="5665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29520" y="5595840"/>
            <a:ext cx="241272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00:00:52Z</dcterms:created>
  <dc:creator>JERRYD</dc:creator>
  <dc:description/>
  <dc:language>en-US</dc:language>
  <cp:lastModifiedBy>JERRYD</cp:lastModifiedBy>
  <dcterms:modified xsi:type="dcterms:W3CDTF">2003-04-29T01:49:05Z</dcterms:modified>
  <cp:revision>4</cp:revision>
  <dc:subject/>
  <dc:title>PowerPoint Presentation</dc:title>
</cp:coreProperties>
</file>